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scuss BWDSB model here – also refer to EduGAINS  board supports – Adobe Presenters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urt Lewen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obianco, and others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79DE-5EBC-4921-82C4-8E6622360AB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t occurs over time (5 months for us with fractions) and is modified to align with the teachers’ needs and fin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ext from TMERC Collaborative Action Research Digital Paper (www.tmerc.c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KNAER_Trent_Benefits of Professional Learning (1:45 min)  - benefits of same lesson in different classrooms and also focus on one content area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cond video Slow it down (3:25 – 5:15 – play this by 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ath instructional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ICE: Ideally we want our Professional Development opportunities to be powerful enough that they make us think, question, want to learn more and change our prac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hink that this Collaborative Research Project was that kind of P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E152-3F71-4EB2-B845-D4A3B3CDD36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ICE: Ideally we want our Professional Development opportunities to be powerful enough that they make us think, question, want to learn more and change our prac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hink that this Collaborative Research Project was that kind of P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BEC7-8FC2-4D1C-B910-6659EF8CC69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93A2-92B4-4882-8D71-02A8D8D5B70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y Bruce…Across multiple studies, there is clear evidence that sustained, iterative, teacher-directed and collaborative models of professional learning support significant gains in teacher effica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A382-D461-41FD-9B8E-5D3F1B6C756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y Bruce…Across multiple studies, there is clear evidence that sustained, iterative, teacher-directed and collaborative models of professional learning support significant gains in teacher effica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 versus the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sual model of the difference between what we are calling PD and 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D922-27D0-45B4-BA8F-AB7E3D93F7FA}" type="slidenum"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key characteristics of 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ainly not classroom 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how to overcome some of the challe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really collaborati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key characteristics of 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ainly not classroom 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how to overcome some of the challe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really collaborati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A8885-89C8-4749-A23E-C6FA4CDF5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6B44-BB16-443F-956A-84F89B330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1395-67E2-49ED-A5DC-0E0CB2009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7E0A4-6BF5-4029-AEB2-A63FAB959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7F6B-2E0E-4C9D-A0A0-29AC0F2EA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0656D-6F0A-4264-80CA-163C3E5FA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968BC-3E14-4DF9-8464-10974D912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2496-D184-470F-95EB-5717B9C07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5CF9-7909-4A96-B61E-9A4C677B5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EF01-F923-4C11-9ABB-10778A254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C318-6321-4736-88AF-27B3DBD27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6B55-30B0-45F8-9A71-C3FEC5924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BC5E-F792-4787-B1D3-F22DC2E9EE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hyperlink" Target="mailto:cathybruce@trentu.ca" TargetMode="External"/><Relationship Id="rId4" Type="http://schemas.openxmlformats.org/officeDocument/2006/relationships/hyperlink" Target="http://www.tmerc.ca/" TargetMode="External"/><Relationship Id="rId5" Type="http://schemas.openxmlformats.org/officeDocument/2006/relationships/hyperlink" Target="mailto:shelley.yearly@tldsb.on.ca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essonresearch.net/DeeperLookatLS.pdf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5188-2288-4889-A602-F79BFBE858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490d8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Best Thinking About… Professional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2"/>
          <a:stretch/>
        </p:blipFill>
        <p:spPr>
          <a:xfrm>
            <a:off x="2666880" y="762120"/>
            <a:ext cx="4038840" cy="2374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380880" y="4876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y Bru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athybruce@trentu.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tmerc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ey Year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helley.yearly@tldsb.on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Math Knowledge For Teach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E55E-3E61-43B7-9D31-6458908BC5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Impact of MKT 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294920"/>
            <a:ext cx="82296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Developing MKT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294920"/>
            <a:ext cx="82296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Why this is important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Some Professional Learning Model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560" y="13716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binars/on-lin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ss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-planning, co-teaching, de-brie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nsition PL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7960" y="12952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5000"/>
          </a:bodyPr>
          <a:p>
            <a:pPr marL="36324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monstration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24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24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llaborative Assessment/Resourc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24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llaborative Action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24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24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24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F4ED-0579-4C0F-91A3-3FA5790CE0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6092"/>
                </a:solidFill>
                <a:latin typeface="Arial"/>
              </a:rPr>
              <a:t>Characteristics of Teacher Inquiry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0880" y="1066320"/>
            <a:ext cx="4191120" cy="434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r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Capacity building series, 20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ontent Placeholder 2"/>
          <p:cNvSpPr/>
          <p:nvPr/>
        </p:nvSpPr>
        <p:spPr>
          <a:xfrm>
            <a:off x="4738680" y="1066680"/>
            <a:ext cx="3948120" cy="4343400"/>
          </a:xfrm>
          <a:prstGeom prst="rect">
            <a:avLst/>
          </a:prstGeom>
          <a:solidFill>
            <a:srgbClr val="edf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we consider ad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Teacher direc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eacher as agent and decision mak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Activist 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acti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key characteristics? (to think ab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1440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6092"/>
                </a:solidFill>
                <a:latin typeface="Arial"/>
              </a:rPr>
              <a:t>How Do These Fit Together?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0" y="1546200"/>
            <a:ext cx="9144000" cy="563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oad Context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457200" y="2122560"/>
            <a:ext cx="8229600" cy="473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3948120" y="2146320"/>
            <a:ext cx="36529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rigins as old as humanki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2395440" y="3809880"/>
            <a:ext cx="6559560" cy="2587680"/>
          </a:xfrm>
          <a:prstGeom prst="ellipse">
            <a:avLst/>
          </a:prstGeom>
          <a:solidFill>
            <a:srgbClr val="f1f9f9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5272200" y="4033800"/>
            <a:ext cx="29638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ince University of Chicago Laboratory School, around 19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9"/>
          <p:cNvSpPr/>
          <p:nvPr/>
        </p:nvSpPr>
        <p:spPr>
          <a:xfrm>
            <a:off x="2154240" y="2862360"/>
            <a:ext cx="2556000" cy="2327040"/>
          </a:xfrm>
          <a:prstGeom prst="ellipse">
            <a:avLst/>
          </a:prstGeom>
          <a:solidFill>
            <a:srgbClr val="c2edf2">
              <a:alpha val="52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1916280" y="2833560"/>
            <a:ext cx="2987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rigins in social activis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30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"/>
          <p:cNvSpPr/>
          <p:nvPr/>
        </p:nvSpPr>
        <p:spPr>
          <a:xfrm>
            <a:off x="2973240" y="4179960"/>
            <a:ext cx="1143000" cy="915840"/>
          </a:xfrm>
          <a:prstGeom prst="ellipse">
            <a:avLst/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820960" y="4176720"/>
            <a:ext cx="150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abo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ast 20 y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649440" y="456552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-planning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-te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557280" y="3564000"/>
            <a:ext cx="150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cher and classr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1163520" y="539604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k study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stu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4926960" y="6745320"/>
            <a:ext cx="365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nt bird’s nest on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Collaborative Action Research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C1A5-D128-4B1B-BC79-C21E8C729A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" descr="Digital Papers - TMERC.ca - Google Chrome"/>
          <p:cNvPicPr/>
          <p:nvPr/>
        </p:nvPicPr>
        <p:blipFill>
          <a:blip r:embed="rId1"/>
          <a:srcRect l="20343" t="7778" r="20343" b="-509"/>
          <a:stretch/>
        </p:blipFill>
        <p:spPr>
          <a:xfrm>
            <a:off x="2819520" y="2057400"/>
            <a:ext cx="4203720" cy="35622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3"/>
          <p:cNvSpPr/>
          <p:nvPr/>
        </p:nvSpPr>
        <p:spPr>
          <a:xfrm>
            <a:off x="457200" y="1198440"/>
            <a:ext cx="8229600" cy="3751560"/>
          </a:xfrm>
          <a:prstGeom prst="rect">
            <a:avLst/>
          </a:prstGeom>
          <a:solidFill>
            <a:srgbClr val="f1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process of action research allows educator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flect on an issue or a problem relevant to their teach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o determine what research question(s) they are trying to answ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o implement an intervention designed to address the probl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o collect and analyse data to determine if their intervention is having an effect, a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o implement changes in their practice based on their f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5638680" y="5181480"/>
            <a:ext cx="2286000" cy="459720"/>
          </a:xfrm>
          <a:prstGeom prst="rect">
            <a:avLst/>
          </a:prstGeom>
          <a:solidFill>
            <a:srgbClr val="4597a0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www.tmerc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Models: Looks like / Doesn</a:t>
            </a:r>
            <a:r>
              <a:rPr b="0" lang="ja-JP" sz="4000" spc="-1" strike="noStrike">
                <a:solidFill>
                  <a:srgbClr val="2b5ca9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 look like 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ure what you are thinkin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What we learned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36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Powerful Professional Learn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193240" cy="4167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about… a professional learning experience that has been particularly important in supporting improved practice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a quick note about what it was and why it was so power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eep this in mind through the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9645-3719-4713-A07F-37139C926A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Teacher Impact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73" name="KNAER_Trent_Jan11_2012_S06_Benefits of Professional Learning_21April12.mov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2989-4535-4500-A99F-159A36A966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84582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Avoiding Pitfalls Of Professional Learn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yth: no budget for release time = no p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yth: no planning needed just show up (carefully plan content, strategies, dynamics and trajectori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yth: drop in-between meeting/session activ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yth: PLC is separate from CIL-M 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ing CIL-M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from Inqui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yth: Growing quickly will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o is a knowledgeable other? How do they facilitat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coach is a coach (no special training, and don</a:t>
            </a: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 need support themselv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Integrating this knowledge (Consolidate)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D05C-F176-468C-9D11-97B229EB3C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What opportunities can you create for…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lowing it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staining focus on a precise content pie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ilding purposeful professional learning networks with researc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pporting teachers as co-lear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38A5-9FD7-4DED-BE6B-422EE32D7D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Why High Quality Math PL Is Important?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cy (empowerment, ownership and constructive urgen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learning (close attention to student work, listening and notic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ility (will and capacity to contin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5ca9"/>
                </a:solidFill>
                <a:latin typeface="Arial"/>
              </a:rPr>
              <a:t>The Compelling Why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st reforms stop short at the classroom door; all available evidence suggests that classroom practice has changed little in the past 100 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wis, Perry &amp; Hurd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 Deeper Look at Lesson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ducational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5ca9"/>
                </a:solidFill>
                <a:latin typeface="Arial"/>
              </a:rPr>
              <a:t>The Compelling Why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ter-Wright’s 2009 review of over 200 studies on PD and PL found that “professionals learn from experience and that learning is ongoing through active engagement in practice” (p. 723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 vast majority of educational PD programs have separated the learning opportunities from natural contexts and from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: 1. teachers need fixing up; 2. learning out of context will be translated to classroom with ease; 3. others know best what teachers ne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Five Characteristics of Effective Professional Learn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8000"/>
          </a:bodyPr>
          <a:p>
            <a:pPr marL="33660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five characteristics should be considered by anyone charged with, or seeking to provide professional learning experiences for Ontari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) Coh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) Attention to Adult 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) Goal-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) Sustai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) Evidence-in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800600" y="495288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ommendations to the Partnership Table on Teacher Professional Learning (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Characteristics of Effective Professional Learn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7840" y="15235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ross multiple studies, there is clear evidence that sustained, iterative, teacher-directed and collaborative models of professional learning support significant gains in teacher effica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500720" y="457200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Dr. Cathy Bruc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Science &amp; Technology Education Group (20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Bruce, Esmonde, Ross, Gookey, Beatty ,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84960" y="74520"/>
            <a:ext cx="871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9600" indent="-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5ca9"/>
                </a:solidFill>
                <a:latin typeface="Arial"/>
              </a:rPr>
              <a:t>Explanatory Diagram: The W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676520" y="1066680"/>
            <a:ext cx="7010280" cy="4419720"/>
          </a:xfrm>
          <a:prstGeom prst="rect">
            <a:avLst/>
          </a:prstGeom>
          <a:solidFill>
            <a:srgbClr val="d9d9d9">
              <a:alpha val="1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5"/>
          <p:cNvSpPr/>
          <p:nvPr/>
        </p:nvSpPr>
        <p:spPr>
          <a:xfrm>
            <a:off x="1676520" y="3182760"/>
            <a:ext cx="7010280" cy="2286000"/>
          </a:xfrm>
          <a:prstGeom prst="roundRect">
            <a:avLst>
              <a:gd name="adj" fmla="val 16667"/>
            </a:avLst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4"/>
          <p:cNvCxnSpPr/>
          <p:nvPr/>
        </p:nvCxnSpPr>
        <p:spPr>
          <a:xfrm flipV="1">
            <a:off x="3733920" y="1905840"/>
            <a:ext cx="1296000" cy="2896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Straight Arrow Connector 8"/>
          <p:cNvCxnSpPr/>
          <p:nvPr/>
        </p:nvCxnSpPr>
        <p:spPr>
          <a:xfrm flipV="1">
            <a:off x="6477120" y="1905840"/>
            <a:ext cx="1296000" cy="2896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Straight Arrow Connector 2"/>
          <p:cNvCxnSpPr/>
          <p:nvPr/>
        </p:nvCxnSpPr>
        <p:spPr>
          <a:xfrm>
            <a:off x="2286000" y="1906200"/>
            <a:ext cx="1448640" cy="2896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7"/>
          <p:cNvCxnSpPr/>
          <p:nvPr/>
        </p:nvCxnSpPr>
        <p:spPr>
          <a:xfrm>
            <a:off x="5029200" y="1906200"/>
            <a:ext cx="1448640" cy="2896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9"/>
          <p:cNvSpPr/>
          <p:nvPr/>
        </p:nvSpPr>
        <p:spPr>
          <a:xfrm>
            <a:off x="1752480" y="1297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7315200" y="1297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2438280" y="487836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ORATORY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5943600" y="487836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4495680" y="144936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 rot="3906600">
            <a:off x="2293560" y="27550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"/>
          <p:cNvSpPr/>
          <p:nvPr/>
        </p:nvSpPr>
        <p:spPr>
          <a:xfrm rot="3880200">
            <a:off x="5117760" y="27752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8"/>
          <p:cNvSpPr/>
          <p:nvPr/>
        </p:nvSpPr>
        <p:spPr>
          <a:xfrm rot="17553000">
            <a:off x="3822840" y="2521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rie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9"/>
          <p:cNvSpPr/>
          <p:nvPr/>
        </p:nvSpPr>
        <p:spPr>
          <a:xfrm rot="17581800">
            <a:off x="6542280" y="25520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rie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1148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0" y="19810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2"/>
          <p:cNvSpPr/>
          <p:nvPr/>
        </p:nvSpPr>
        <p:spPr>
          <a:xfrm flipH="1">
            <a:off x="1371600" y="4268880"/>
            <a:ext cx="533520" cy="21564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7"/>
          <p:cNvSpPr/>
          <p:nvPr/>
        </p:nvSpPr>
        <p:spPr>
          <a:xfrm>
            <a:off x="1219320" y="23637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extBox 29" descr=""/>
          <p:cNvPicPr/>
          <p:nvPr/>
        </p:nvPicPr>
        <p:blipFill>
          <a:blip r:embed="rId1"/>
          <a:stretch/>
        </p:blipFill>
        <p:spPr>
          <a:xfrm>
            <a:off x="1835280" y="3657600"/>
            <a:ext cx="682776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So Let</a:t>
            </a:r>
            <a:r>
              <a:rPr b="0" lang="ja-JP" sz="4000" spc="-1" strike="noStrike">
                <a:solidFill>
                  <a:srgbClr val="2b5ca9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s Analyse Math CAMPPP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94920"/>
            <a:ext cx="419112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key characteristics of professional lear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Camppp strong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Camppp weak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4724280" y="1295280"/>
            <a:ext cx="4419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Teacher-di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Research/evidence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Sus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Classroom embe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Goal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Content r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So Let</a:t>
            </a:r>
            <a:r>
              <a:rPr b="0" lang="ja-JP" sz="4000" spc="-1" strike="noStrike">
                <a:solidFill>
                  <a:srgbClr val="2b5ca9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s Analyse Math CAMPPP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943600" y="1371600"/>
            <a:ext cx="2743200" cy="4038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5000"/>
          </a:bodyPr>
          <a:p>
            <a:pPr marL="37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has Math CAMPPP done to try to overcome some of the challenges of a week-long PD experience in summer mont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152280" y="1371600"/>
            <a:ext cx="4419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llabo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acher-di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search-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s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assroom embe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oal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ent r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3962520" y="1371600"/>
            <a:ext cx="16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e on a scale of 1 to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Catherine Bruce</cp:lastModifiedBy>
  <dcterms:modified xsi:type="dcterms:W3CDTF">2012-07-25T02:53:04Z</dcterms:modified>
  <cp:revision>36</cp:revision>
  <dc:subject/>
  <dc:title>&lt;Title&gt;</dc:title>
</cp:coreProperties>
</file>